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C9CB-79D6-4855-8F96-49AF65A4B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D0B6-ED2E-4DEB-90CE-C98AE430E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2D20-F6BD-4B2A-A431-4B1326BD4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680B-4840-4F2C-99BF-CD0448D3F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7471-0ADB-4534-B708-99CD7514C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02A3-7C05-418F-B377-FCD51A747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0E11-2E0B-42F6-98C5-0BE145E73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8F08-5616-4B5C-9395-B064F2EC8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366E-C567-4643-BEEE-30F4799A2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6EB6-4CB2-4A93-B95A-EFBB08B8C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CF95-8334-4A1E-9DAB-599567145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1B0B-AC70-42CB-BEA6-6D1CEB2BA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Q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Q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5CEA0-A5AD-485D-83D1-FCCA631A747C}" type="slidenum">
              <a:rPr b="0" lang="ar-Q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2133720" y="228600"/>
            <a:ext cx="33526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be0e3"/>
                  </a:solidFill>
                  <a:miter/>
                </a:ln>
                <a:solidFill>
                  <a:srgbClr val="000080">
                    <a:alpha val="75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Warm - Up  Activity 4</a:t>
            </a:r>
            <a:endParaRPr b="0" lang="en-US" sz="1800" spc="1" strike="noStrike">
              <a:ln w="12600">
                <a:solidFill>
                  <a:srgbClr val="bbe0e3"/>
                </a:solidFill>
                <a:miter/>
              </a:ln>
              <a:solidFill>
                <a:srgbClr val="000080">
                  <a:alpha val="75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2" name="Picture 5" descr="23820752"/>
          <p:cNvPicPr/>
          <p:nvPr/>
        </p:nvPicPr>
        <p:blipFill>
          <a:blip r:embed="rId1"/>
          <a:stretch/>
        </p:blipFill>
        <p:spPr>
          <a:xfrm>
            <a:off x="290520" y="228600"/>
            <a:ext cx="1309680" cy="11080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6"/>
          <p:cNvSpPr/>
          <p:nvPr/>
        </p:nvSpPr>
        <p:spPr>
          <a:xfrm>
            <a:off x="228600" y="8564400"/>
            <a:ext cx="640080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 Activity  Sheet # 4 in student workbook . Reference : SB4- What is Resear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0" y="5410080"/>
            <a:ext cx="6858000" cy="2971800"/>
          </a:xfrm>
          <a:prstGeom prst="rect">
            <a:avLst/>
          </a:prstGeom>
          <a:ln w="0">
            <a:noFill/>
          </a:ln>
        </p:spPr>
      </p:pic>
      <p:sp>
        <p:nvSpPr>
          <p:cNvPr id="45" name="TextBox 5"/>
          <p:cNvSpPr/>
          <p:nvPr/>
        </p:nvSpPr>
        <p:spPr>
          <a:xfrm>
            <a:off x="0" y="1523880"/>
            <a:ext cx="6858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lour print this document. Enlarge with a photocopier if requi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minate the true / false board who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t the red and blue sheets into cards and laminate individu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lit children into groups of six (approx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ive each group a True / False bo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lit each group into two teams and give one team a blue set of cards and the other team a red set of cards all face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ach team takes it in turn to turn over one card at a time. The team discusses whether the statement is true or false and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aces it on a square on the True/False bo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first team to get four in a row wi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8001000"/>
          </a:xfrm>
          <a:prstGeom prst="rect">
            <a:avLst/>
          </a:prstGeom>
          <a:ln w="0">
            <a:noFill/>
          </a:ln>
        </p:spPr>
      </p:pic>
      <p:sp>
        <p:nvSpPr>
          <p:cNvPr id="47" name="TextBox 2"/>
          <p:cNvSpPr/>
          <p:nvPr/>
        </p:nvSpPr>
        <p:spPr>
          <a:xfrm>
            <a:off x="152280" y="800100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aminated cards are available – Resource Kit Shee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2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76320" y="304920"/>
          <a:ext cx="6705360" cy="7597800"/>
        </p:xfrm>
        <a:graphic>
          <a:graphicData uri="http://schemas.openxmlformats.org/drawingml/2006/table">
            <a:tbl>
              <a:tblPr/>
              <a:tblGrid>
                <a:gridCol w="1793880"/>
                <a:gridCol w="1558800"/>
                <a:gridCol w="1676520"/>
                <a:gridCol w="1676160"/>
              </a:tblGrid>
              <a:tr h="190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 requires a  specific plan of procedur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8080"/>
                        </a:gs>
                        <a:gs pos="100000">
                          <a:srgbClr val="ffdada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 results are meant to be confidential and not publishe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8080"/>
                        </a:gs>
                        <a:gs pos="100000">
                          <a:srgbClr val="ffdada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  is guided by a specific research problem, question or hypothesi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8080"/>
                        </a:gs>
                        <a:gs pos="100000">
                          <a:srgbClr val="ffdada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ers have to be biased  at  tim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8080"/>
                        </a:gs>
                        <a:gs pos="100000">
                          <a:srgbClr val="ffdada"/>
                        </a:gs>
                      </a:gsLst>
                      <a:lin ang="8100000"/>
                    </a:gradFill>
                  </a:tcPr>
                </a:tc>
              </a:tr>
              <a:tr h="161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 does not involve a testable hypothesi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8080"/>
                        </a:gs>
                        <a:gs pos="100000">
                          <a:srgbClr val="ffdada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 originates by chanc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8080"/>
                        </a:gs>
                        <a:gs pos="100000">
                          <a:srgbClr val="ffdada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 involves collection and interpretation of dat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8080"/>
                        </a:gs>
                        <a:gs pos="100000">
                          <a:srgbClr val="ffdada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 is sceptical</a:t>
                      </a: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8080"/>
                        </a:gs>
                        <a:gs pos="100000">
                          <a:srgbClr val="ffdada"/>
                        </a:gs>
                      </a:gsLst>
                      <a:lin ang="8100000"/>
                    </a:gradFill>
                  </a:tcPr>
                </a:tc>
              </a:tr>
              <a:tr h="190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 activity must show ethical consideratio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8080"/>
                        </a:gs>
                        <a:gs pos="100000">
                          <a:srgbClr val="ffdada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 must be open and examine data from a variety of perspectiv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8080"/>
                        </a:gs>
                        <a:gs pos="100000">
                          <a:srgbClr val="ffdada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 is ambiguous</a:t>
                      </a: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8080"/>
                        </a:gs>
                        <a:gs pos="100000">
                          <a:srgbClr val="ffdada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 is a truth seeking activit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8080"/>
                        </a:gs>
                        <a:gs pos="100000">
                          <a:srgbClr val="ffdada"/>
                        </a:gs>
                      </a:gsLst>
                      <a:lin ang="8100000"/>
                    </a:gradFill>
                  </a:tcPr>
                </a:tc>
              </a:tr>
              <a:tr h="2167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  always involves a scientific metho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8080"/>
                        </a:gs>
                        <a:gs pos="100000">
                          <a:srgbClr val="ffdada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 aims to create new knowledg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8080"/>
                        </a:gs>
                        <a:gs pos="100000">
                          <a:srgbClr val="ffdada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 is only  a fact discovery activity</a:t>
                      </a: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8080"/>
                        </a:gs>
                        <a:gs pos="100000">
                          <a:srgbClr val="ffdada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 usually  divides the principal problem into more manageable  sub problem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8080"/>
                        </a:gs>
                        <a:gs pos="100000">
                          <a:srgbClr val="ffdada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  <p:sp>
        <p:nvSpPr>
          <p:cNvPr id="49" name="TextBox 2"/>
          <p:cNvSpPr/>
          <p:nvPr/>
        </p:nvSpPr>
        <p:spPr>
          <a:xfrm>
            <a:off x="152280" y="800100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aminated cards are available – Resource Kit Shee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2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76320" y="304920"/>
          <a:ext cx="6705360" cy="7597800"/>
        </p:xfrm>
        <a:graphic>
          <a:graphicData uri="http://schemas.openxmlformats.org/drawingml/2006/table">
            <a:tbl>
              <a:tblPr/>
              <a:tblGrid>
                <a:gridCol w="1793880"/>
                <a:gridCol w="1558800"/>
                <a:gridCol w="1676520"/>
                <a:gridCol w="1676160"/>
              </a:tblGrid>
              <a:tr h="190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 requires a  specific plan of procedur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 results are meant to be confidential and not publishe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  is guided by a specific research problem, question or hypothesi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ers have to be biased  at  tim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stretch/>
                    </a:blipFill>
                  </a:tcPr>
                </a:tc>
              </a:tr>
              <a:tr h="161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 does not involve a testable hypothesi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stretch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 originates by chanc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stretch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 involves collection and interpretation of dat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stretch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 is sceptical</a:t>
                      </a: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stretch/>
                    </a:blipFill>
                  </a:tcPr>
                </a:tc>
              </a:tr>
              <a:tr h="190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 activity must show ethical consideratio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stretch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 must be open and examine data from a variety of perspectiv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stretch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 is ambiguous</a:t>
                      </a: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stretch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 is a truth seeking activit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stretch/>
                    </a:blipFill>
                  </a:tcPr>
                </a:tc>
              </a:tr>
              <a:tr h="2167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  always involves a scientific metho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stretch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 aims to create new knowledg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stretch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 is only  a fact discovery activity</a:t>
                      </a: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stretch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 usually  divides the principal problem into more manageable  sub problem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stretch/>
                    </a:blipFill>
                  </a:tcPr>
                </a:tc>
              </a:tr>
            </a:tbl>
          </a:graphicData>
        </a:graphic>
      </p:graphicFrame>
      <p:sp>
        <p:nvSpPr>
          <p:cNvPr id="51" name="TextBox 10"/>
          <p:cNvSpPr/>
          <p:nvPr/>
        </p:nvSpPr>
        <p:spPr>
          <a:xfrm>
            <a:off x="152280" y="800100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aminated cards are available – Resource Kit Shee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2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17:24:22Z</dcterms:created>
  <dc:creator>Gene</dc:creator>
  <dc:description/>
  <dc:language>en-US</dc:language>
  <cp:lastModifiedBy>Gene</cp:lastModifiedBy>
  <dcterms:modified xsi:type="dcterms:W3CDTF">2008-03-03T17:24:37Z</dcterms:modified>
  <cp:revision>1</cp:revision>
  <dc:subject/>
  <dc:title>Slide 1</dc:title>
</cp:coreProperties>
</file>